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7BD-6318-4472-8659-1C0F9F15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81A-FD97-49DD-A278-3A6C2E05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6EB-5BD7-4010-8247-6EB8F1C2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333-1F87-4477-86DA-C16C3684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6AD-9BE6-4931-B857-E13108CA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D33-0727-4044-B4B8-2E91E28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1C4-7074-4BBE-9D55-C2BCDDEE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E48-1445-4591-8729-F4E6FA08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795-5616-416C-AEA8-D3CE9FCA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8A2-6093-4175-BF95-96D7A91E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F91-2C1D-4560-8B7E-731BBE5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B0A-17C3-4C48-9A8F-0DF81451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A151-8E0C-4F48-BFBC-77A670AB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95360"/>
            <a:ext cx="8521560" cy="6238800"/>
          </a:xfrm>
          <a:custGeom>
            <a:avLst/>
            <a:gdLst/>
            <a:ahLst/>
            <a:rect l="l" t="t" r="r" b="b"/>
            <a:pathLst>
              <a:path w="5368" h="3930">
                <a:moveTo>
                  <a:pt x="5368" y="0"/>
                </a:moveTo>
                <a:lnTo>
                  <a:pt x="5368" y="3930"/>
                </a:lnTo>
                <a:lnTo>
                  <a:pt x="2578" y="3927"/>
                </a:lnTo>
                <a:lnTo>
                  <a:pt x="5" y="3927"/>
                </a:lnTo>
                <a:lnTo>
                  <a:pt x="0" y="7"/>
                </a:lnTo>
                <a:lnTo>
                  <a:pt x="5368" y="0"/>
                </a:lnTo>
                <a:close/>
              </a:path>
            </a:pathLst>
          </a:cu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5400" y="1968480"/>
            <a:ext cx="1792080" cy="2139840"/>
          </a:xfrm>
          <a:custGeom>
            <a:avLst/>
            <a:gdLst/>
            <a:ahLst/>
            <a:rect l="l" t="t" r="r" b="b"/>
            <a:pathLst>
              <a:path w="826" h="868">
                <a:moveTo>
                  <a:pt x="0" y="0"/>
                </a:moveTo>
                <a:lnTo>
                  <a:pt x="826" y="0"/>
                </a:lnTo>
                <a:lnTo>
                  <a:pt x="826" y="868"/>
                </a:lnTo>
                <a:lnTo>
                  <a:pt x="6" y="868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88880"/>
            <a:ext cx="3222720" cy="14842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3160" y="4191120"/>
            <a:ext cx="1457280" cy="23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712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1240" y="55450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6748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9400" y="34894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6840" y="2911320"/>
            <a:ext cx="0" cy="119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7080" y="366408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473520" y="2908440"/>
            <a:ext cx="4680" cy="11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781200"/>
            <a:ext cx="1038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ant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ALF 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800" y="4143240"/>
            <a:ext cx="80899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3240" y="3095640"/>
            <a:ext cx="352440" cy="42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22520" y="3533760"/>
            <a:ext cx="0" cy="5716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00" y="4159080"/>
            <a:ext cx="141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CFE (SECRET/4 EY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09920" y="4179960"/>
            <a:ext cx="9360" cy="9604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http://www.richard-seaman.com/Aircraft/AirShows/Nellis2006/Highlights/index.html"/>
          <p:cNvPicPr/>
          <p:nvPr/>
        </p:nvPicPr>
        <p:blipFill>
          <a:blip r:embed="rId2"/>
          <a:srcRect l="4465" t="0" r="0" b="8725"/>
          <a:stretch/>
        </p:blipFill>
        <p:spPr>
          <a:xfrm>
            <a:off x="4983120" y="928800"/>
            <a:ext cx="847800" cy="5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61720" y="612720"/>
            <a:ext cx="1320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ator (surro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AR/MTI, NFOV Vide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84480" y="1520640"/>
            <a:ext cx="343440" cy="612720"/>
            <a:chOff x="4884480" y="1520640"/>
            <a:chExt cx="343440" cy="612720"/>
          </a:xfrm>
        </p:grpSpPr>
        <p:sp>
          <p:nvSpPr>
            <p:cNvPr id="61" name=""/>
            <p:cNvSpPr/>
            <p:nvPr/>
          </p:nvSpPr>
          <p:spPr>
            <a:xfrm flipV="1">
              <a:off x="5014800" y="1520640"/>
              <a:ext cx="213120" cy="33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14800" y="1800720"/>
              <a:ext cx="82440" cy="52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884480" y="1800720"/>
              <a:ext cx="213120" cy="33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U-2 Dragon Lady"/>
          <p:cNvPicPr/>
          <p:nvPr/>
        </p:nvPicPr>
        <p:blipFill>
          <a:blip r:embed="rId3"/>
          <a:stretch/>
        </p:blipFill>
        <p:spPr>
          <a:xfrm>
            <a:off x="6816600" y="1015920"/>
            <a:ext cx="903240" cy="62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42840" y="1593720"/>
            <a:ext cx="89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rcRect l="1887" t="0" r="2268" b="0"/>
          <a:stretch/>
        </p:blipFill>
        <p:spPr>
          <a:xfrm>
            <a:off x="7311960" y="633240"/>
            <a:ext cx="846360" cy="579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6594480" y="1652040"/>
            <a:ext cx="315720" cy="480960"/>
            <a:chOff x="6594480" y="1652040"/>
            <a:chExt cx="315720" cy="480960"/>
          </a:xfrm>
        </p:grpSpPr>
        <p:sp>
          <p:nvSpPr>
            <p:cNvPr id="68" name=""/>
            <p:cNvSpPr/>
            <p:nvPr/>
          </p:nvSpPr>
          <p:spPr>
            <a:xfrm flipV="1">
              <a:off x="6715440" y="1652040"/>
              <a:ext cx="19476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15440" y="1870920"/>
              <a:ext cx="73440" cy="42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94480" y="1871280"/>
              <a:ext cx="19512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652920" y="4572000"/>
            <a:ext cx="482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 Req’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rcRect l="0" t="0" r="0" b="25891"/>
          <a:stretch/>
        </p:blipFill>
        <p:spPr>
          <a:xfrm>
            <a:off x="4865760" y="5132520"/>
            <a:ext cx="704880" cy="99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065560" y="4179960"/>
            <a:ext cx="504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1520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8940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6120" y="4175280"/>
            <a:ext cx="0" cy="971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720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165120" y="3395520"/>
            <a:ext cx="3240" cy="7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92440" y="339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0400" y="4179960"/>
            <a:ext cx="14040" cy="9572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137000" y="417528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636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303680" y="4176360"/>
            <a:ext cx="3240" cy="9558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rcRect l="2605" t="2299" r="4690" b="3822"/>
          <a:stretch/>
        </p:blipFill>
        <p:spPr>
          <a:xfrm>
            <a:off x="363600" y="1103400"/>
            <a:ext cx="847800" cy="58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76840" y="13968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E Architecture/Data Flow (Rev 5, 5 Aug 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84600" y="2224080"/>
            <a:ext cx="455400" cy="687240"/>
            <a:chOff x="4584600" y="2224080"/>
            <a:chExt cx="455400" cy="687240"/>
          </a:xfrm>
        </p:grpSpPr>
        <p:grpSp>
          <p:nvGrpSpPr>
            <p:cNvPr id="87" name=""/>
            <p:cNvGrpSpPr/>
            <p:nvPr/>
          </p:nvGrpSpPr>
          <p:grpSpPr>
            <a:xfrm>
              <a:off x="4584960" y="2224080"/>
              <a:ext cx="455040" cy="246240"/>
              <a:chOff x="4584960" y="2224080"/>
              <a:chExt cx="455040" cy="24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2924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8496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584600" y="2665080"/>
              <a:ext cx="441360" cy="246240"/>
              <a:chOff x="4584600" y="2665080"/>
              <a:chExt cx="441360" cy="2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462924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460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2904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86320" y="2224080"/>
            <a:ext cx="455400" cy="687240"/>
            <a:chOff x="6286320" y="2224080"/>
            <a:chExt cx="455400" cy="687240"/>
          </a:xfrm>
        </p:grpSpPr>
        <p:grpSp>
          <p:nvGrpSpPr>
            <p:cNvPr id="95" name=""/>
            <p:cNvGrpSpPr/>
            <p:nvPr/>
          </p:nvGrpSpPr>
          <p:grpSpPr>
            <a:xfrm>
              <a:off x="6286680" y="2224080"/>
              <a:ext cx="455040" cy="246240"/>
              <a:chOff x="6286680" y="2224080"/>
              <a:chExt cx="455040" cy="246240"/>
            </a:xfrm>
          </p:grpSpPr>
          <p:sp>
            <p:nvSpPr>
              <p:cNvPr id="96" name=""/>
              <p:cNvSpPr/>
              <p:nvPr/>
            </p:nvSpPr>
            <p:spPr>
              <a:xfrm>
                <a:off x="633096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8668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286320" y="2665080"/>
              <a:ext cx="441360" cy="246240"/>
              <a:chOff x="6286320" y="2665080"/>
              <a:chExt cx="441360" cy="246240"/>
            </a:xfrm>
          </p:grpSpPr>
          <p:sp>
            <p:nvSpPr>
              <p:cNvPr id="99" name=""/>
              <p:cNvSpPr/>
              <p:nvPr/>
            </p:nvSpPr>
            <p:spPr>
              <a:xfrm>
                <a:off x="633096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8632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3076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84520" y="5143680"/>
            <a:ext cx="1741320" cy="799920"/>
            <a:chOff x="1784520" y="5143680"/>
            <a:chExt cx="1741320" cy="799920"/>
          </a:xfrm>
        </p:grpSpPr>
        <p:sp>
          <p:nvSpPr>
            <p:cNvPr id="103" name=""/>
            <p:cNvSpPr/>
            <p:nvPr/>
          </p:nvSpPr>
          <p:spPr>
            <a:xfrm>
              <a:off x="1784520" y="5143680"/>
              <a:ext cx="17413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1809720" y="5168880"/>
              <a:ext cx="166716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1280" y="562464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37360" y="562464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nuiViewe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Pixia Plug-i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36640" y="3119400"/>
            <a:ext cx="381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Isil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Sto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440" y="488880"/>
            <a:ext cx="8548560" cy="624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68600" y="1015920"/>
            <a:ext cx="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6400" y="976320"/>
            <a:ext cx="610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ost-flig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fflo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39720" y="1227240"/>
            <a:ext cx="517320" cy="390600"/>
            <a:chOff x="1539720" y="1227240"/>
            <a:chExt cx="517320" cy="390600"/>
          </a:xfrm>
        </p:grpSpPr>
        <p:pic>
          <p:nvPicPr>
            <p:cNvPr id="112" name="" descr=""/>
            <p:cNvPicPr/>
            <p:nvPr/>
          </p:nvPicPr>
          <p:blipFill>
            <a:blip r:embed="rId8"/>
            <a:srcRect l="2110" t="56824" r="85913" b="31906"/>
            <a:stretch/>
          </p:blipFill>
          <p:spPr>
            <a:xfrm>
              <a:off x="1544400" y="1227240"/>
              <a:ext cx="5126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45840" y="1228680"/>
              <a:ext cx="507960" cy="88920"/>
            </a:xfrm>
            <a:custGeom>
              <a:avLst/>
              <a:gdLst/>
              <a:ahLst/>
              <a:rect l="l" t="t" r="r" b="b"/>
              <a:pathLst>
                <a:path w="320" h="56">
                  <a:moveTo>
                    <a:pt x="0" y="28"/>
                  </a:moveTo>
                  <a:lnTo>
                    <a:pt x="129" y="26"/>
                  </a:lnTo>
                  <a:lnTo>
                    <a:pt x="189" y="54"/>
                  </a:lnTo>
                  <a:lnTo>
                    <a:pt x="233" y="36"/>
                  </a:lnTo>
                  <a:lnTo>
                    <a:pt x="276" y="56"/>
                  </a:lnTo>
                  <a:lnTo>
                    <a:pt x="320" y="56"/>
                  </a:lnTo>
                  <a:lnTo>
                    <a:pt x="318" y="0"/>
                  </a:lnTo>
                  <a:lnTo>
                    <a:pt x="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9720" y="1228680"/>
              <a:ext cx="517320" cy="36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4600" y="1449360"/>
              <a:ext cx="184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2784240" y="417996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5560" y="418140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410240" y="417672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27600" y="3479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8680" y="1380960"/>
            <a:ext cx="295200" cy="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7040" y="736560"/>
            <a:ext cx="441360" cy="246240"/>
            <a:chOff x="2327040" y="736560"/>
            <a:chExt cx="441360" cy="246240"/>
          </a:xfrm>
        </p:grpSpPr>
        <p:sp>
          <p:nvSpPr>
            <p:cNvPr id="122" name=""/>
            <p:cNvSpPr/>
            <p:nvPr/>
          </p:nvSpPr>
          <p:spPr>
            <a:xfrm>
              <a:off x="2371680" y="753840"/>
              <a:ext cx="3682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7040" y="73656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2085840" y="1009440"/>
            <a:ext cx="260640" cy="1998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1960" y="519120"/>
            <a:ext cx="42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T/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84960" y="99216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9800" y="52236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9880" y="293364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2" descr="MCj03000550000[1]"/>
          <p:cNvPicPr/>
          <p:nvPr/>
        </p:nvPicPr>
        <p:blipFill>
          <a:blip r:embed="rId9"/>
          <a:stretch/>
        </p:blipFill>
        <p:spPr>
          <a:xfrm>
            <a:off x="3106800" y="795240"/>
            <a:ext cx="301680" cy="168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90720" y="828720"/>
            <a:ext cx="295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1760" y="132084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2" descr="MCj03000550000[1]"/>
          <p:cNvPicPr/>
          <p:nvPr/>
        </p:nvPicPr>
        <p:blipFill>
          <a:blip r:embed="rId10"/>
          <a:stretch/>
        </p:blipFill>
        <p:spPr>
          <a:xfrm>
            <a:off x="2406600" y="1380960"/>
            <a:ext cx="301680" cy="1684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755720" y="3076560"/>
            <a:ext cx="666360" cy="519120"/>
            <a:chOff x="1755720" y="3076560"/>
            <a:chExt cx="666360" cy="519120"/>
          </a:xfrm>
        </p:grpSpPr>
        <p:grpSp>
          <p:nvGrpSpPr>
            <p:cNvPr id="134" name=""/>
            <p:cNvGrpSpPr/>
            <p:nvPr/>
          </p:nvGrpSpPr>
          <p:grpSpPr>
            <a:xfrm>
              <a:off x="1763640" y="3110040"/>
              <a:ext cx="390600" cy="476280"/>
              <a:chOff x="1763640" y="3110040"/>
              <a:chExt cx="390600" cy="4762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63640" y="311004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1763640" y="345600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55720" y="3076560"/>
              <a:ext cx="666360" cy="519120"/>
              <a:chOff x="1755720" y="3076560"/>
              <a:chExt cx="666360" cy="5191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755720" y="3100320"/>
                <a:ext cx="406080" cy="495360"/>
                <a:chOff x="1755720" y="3100320"/>
                <a:chExt cx="406080" cy="495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755720" y="310032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7160" y="339876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271600" y="307656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560600" y="2071800"/>
            <a:ext cx="666360" cy="519120"/>
            <a:chOff x="1560600" y="2071800"/>
            <a:chExt cx="666360" cy="519120"/>
          </a:xfrm>
        </p:grpSpPr>
        <p:grpSp>
          <p:nvGrpSpPr>
            <p:cNvPr id="143" name=""/>
            <p:cNvGrpSpPr/>
            <p:nvPr/>
          </p:nvGrpSpPr>
          <p:grpSpPr>
            <a:xfrm>
              <a:off x="1573200" y="2104920"/>
              <a:ext cx="390600" cy="476280"/>
              <a:chOff x="1573200" y="2104920"/>
              <a:chExt cx="390600" cy="4762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73200" y="210492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573200" y="245088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60600" y="2071800"/>
              <a:ext cx="666360" cy="519120"/>
              <a:chOff x="1560600" y="2071800"/>
              <a:chExt cx="666360" cy="5191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560600" y="2095560"/>
                <a:ext cx="406080" cy="495360"/>
                <a:chOff x="1560600" y="2095560"/>
                <a:chExt cx="406080" cy="495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560600" y="209556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62040" y="239400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2076480" y="207180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265760" y="2309760"/>
            <a:ext cx="55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rocess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0800" y="1781280"/>
            <a:ext cx="1035360" cy="1390680"/>
            <a:chOff x="910800" y="1781280"/>
            <a:chExt cx="1035360" cy="1390680"/>
          </a:xfrm>
        </p:grpSpPr>
        <p:sp>
          <p:nvSpPr>
            <p:cNvPr id="153" name=""/>
            <p:cNvSpPr/>
            <p:nvPr/>
          </p:nvSpPr>
          <p:spPr>
            <a:xfrm flipH="1">
              <a:off x="910800" y="1781280"/>
              <a:ext cx="468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6240" y="2455920"/>
              <a:ext cx="1699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03760" y="321624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3880" y="326556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83560" y="3297240"/>
            <a:ext cx="48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Encod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3360" y="1654200"/>
            <a:ext cx="0" cy="4618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776240"/>
            <a:ext cx="167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59084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853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2290680"/>
            <a:ext cx="6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00200" y="2295360"/>
            <a:ext cx="14400" cy="83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200" y="2933640"/>
            <a:ext cx="2905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3440" y="28004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3800" y="28051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41360" y="3749760"/>
            <a:ext cx="244800" cy="231120"/>
            <a:chOff x="2241360" y="3749760"/>
            <a:chExt cx="244800" cy="231120"/>
          </a:xfrm>
        </p:grpSpPr>
        <p:sp>
          <p:nvSpPr>
            <p:cNvPr id="168" name=""/>
            <p:cNvSpPr/>
            <p:nvPr/>
          </p:nvSpPr>
          <p:spPr>
            <a:xfrm>
              <a:off x="2292480" y="379116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41360" y="3749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95520" y="2782800"/>
            <a:ext cx="244800" cy="231120"/>
            <a:chOff x="2495520" y="2782800"/>
            <a:chExt cx="244800" cy="231120"/>
          </a:xfrm>
        </p:grpSpPr>
        <p:sp>
          <p:nvSpPr>
            <p:cNvPr id="171" name=""/>
            <p:cNvSpPr/>
            <p:nvPr/>
          </p:nvSpPr>
          <p:spPr>
            <a:xfrm>
              <a:off x="2548080" y="28209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5520" y="2782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158840" y="2583000"/>
            <a:ext cx="244800" cy="231120"/>
            <a:chOff x="1158840" y="2583000"/>
            <a:chExt cx="244800" cy="231120"/>
          </a:xfrm>
        </p:grpSpPr>
        <p:sp>
          <p:nvSpPr>
            <p:cNvPr id="174" name=""/>
            <p:cNvSpPr/>
            <p:nvPr/>
          </p:nvSpPr>
          <p:spPr>
            <a:xfrm>
              <a:off x="1211400" y="262620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8840" y="2583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050920" y="3375000"/>
            <a:ext cx="244800" cy="231120"/>
            <a:chOff x="2050920" y="3375000"/>
            <a:chExt cx="244800" cy="231120"/>
          </a:xfrm>
        </p:grpSpPr>
        <p:sp>
          <p:nvSpPr>
            <p:cNvPr id="177" name=""/>
            <p:cNvSpPr/>
            <p:nvPr/>
          </p:nvSpPr>
          <p:spPr>
            <a:xfrm>
              <a:off x="2103480" y="34131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0920" y="3375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2600" y="2244600"/>
            <a:ext cx="244800" cy="231120"/>
            <a:chOff x="642600" y="2244600"/>
            <a:chExt cx="244800" cy="231120"/>
          </a:xfrm>
        </p:grpSpPr>
        <p:sp>
          <p:nvSpPr>
            <p:cNvPr id="180" name=""/>
            <p:cNvSpPr/>
            <p:nvPr/>
          </p:nvSpPr>
          <p:spPr>
            <a:xfrm>
              <a:off x="695160" y="2282760"/>
              <a:ext cx="1472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600" y="2244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41040" y="2058840"/>
            <a:ext cx="244800" cy="231120"/>
            <a:chOff x="941040" y="2058840"/>
            <a:chExt cx="244800" cy="231120"/>
          </a:xfrm>
        </p:grpSpPr>
        <p:sp>
          <p:nvSpPr>
            <p:cNvPr id="183" name=""/>
            <p:cNvSpPr/>
            <p:nvPr/>
          </p:nvSpPr>
          <p:spPr>
            <a:xfrm>
              <a:off x="993600" y="2097000"/>
              <a:ext cx="147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1040" y="20588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43000" y="2971800"/>
            <a:ext cx="147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90440" y="2933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63880" y="33606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7680" y="286848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9088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21040" y="1611360"/>
            <a:ext cx="6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8040" y="2571840"/>
            <a:ext cx="570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712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55600" y="3008160"/>
            <a:ext cx="244800" cy="231120"/>
            <a:chOff x="2055600" y="3008160"/>
            <a:chExt cx="244800" cy="231120"/>
          </a:xfrm>
        </p:grpSpPr>
        <p:sp>
          <p:nvSpPr>
            <p:cNvPr id="194" name=""/>
            <p:cNvSpPr/>
            <p:nvPr/>
          </p:nvSpPr>
          <p:spPr>
            <a:xfrm>
              <a:off x="2108160" y="304632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5600" y="3008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70160" y="310680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14840" y="4172040"/>
            <a:ext cx="3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0100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452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96080" y="560088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rcRect l="0" t="61378" r="0" b="0"/>
          <a:stretch/>
        </p:blipFill>
        <p:spPr>
          <a:xfrm>
            <a:off x="4865760" y="5632560"/>
            <a:ext cx="704880" cy="5191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966000" y="5132520"/>
            <a:ext cx="706320" cy="1014120"/>
            <a:chOff x="6966000" y="5132520"/>
            <a:chExt cx="706320" cy="10141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rcRect l="0" t="0" r="0" b="28168"/>
            <a:stretch/>
          </p:blipFill>
          <p:spPr>
            <a:xfrm>
              <a:off x="6967440" y="5132520"/>
              <a:ext cx="704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"/>
            <a:srcRect l="0" t="61378" r="0" b="0"/>
            <a:stretch/>
          </p:blipFill>
          <p:spPr>
            <a:xfrm>
              <a:off x="6966000" y="5627520"/>
              <a:ext cx="704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5738400" y="5106960"/>
            <a:ext cx="741240" cy="1044360"/>
            <a:chOff x="5738400" y="5106960"/>
            <a:chExt cx="741240" cy="1044360"/>
          </a:xfrm>
        </p:grpSpPr>
        <p:grpSp>
          <p:nvGrpSpPr>
            <p:cNvPr id="206" name=""/>
            <p:cNvGrpSpPr/>
            <p:nvPr/>
          </p:nvGrpSpPr>
          <p:grpSpPr>
            <a:xfrm>
              <a:off x="5775120" y="5132160"/>
              <a:ext cx="704520" cy="1019160"/>
              <a:chOff x="5775120" y="5132160"/>
              <a:chExt cx="704520" cy="101916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6"/>
              <a:srcRect l="0" t="0" r="0" b="28732"/>
              <a:stretch/>
            </p:blipFill>
            <p:spPr>
              <a:xfrm>
                <a:off x="5775120" y="5132160"/>
                <a:ext cx="704520" cy="9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17"/>
              <a:srcRect l="0" t="61378" r="0" b="0"/>
              <a:stretch/>
            </p:blipFill>
            <p:spPr>
              <a:xfrm>
                <a:off x="5775120" y="5632200"/>
                <a:ext cx="7045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" name=""/>
            <p:cNvGrpSpPr/>
            <p:nvPr/>
          </p:nvGrpSpPr>
          <p:grpSpPr>
            <a:xfrm>
              <a:off x="5738400" y="5106960"/>
              <a:ext cx="718920" cy="231120"/>
              <a:chOff x="5738400" y="5106960"/>
              <a:chExt cx="718920" cy="231120"/>
            </a:xfrm>
          </p:grpSpPr>
          <p:sp>
            <p:nvSpPr>
              <p:cNvPr id="210" name=""/>
              <p:cNvSpPr/>
              <p:nvPr/>
            </p:nvSpPr>
            <p:spPr>
              <a:xfrm>
                <a:off x="5795640" y="5148360"/>
                <a:ext cx="661680" cy="156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8400" y="5106960"/>
                <a:ext cx="44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GS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577476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7008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965560" y="418464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6120" y="4179600"/>
            <a:ext cx="0" cy="971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235560" y="418608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05600" y="54039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3480" y="510048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 Rm 4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5920" y="181764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6320" y="2922480"/>
            <a:ext cx="0" cy="8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7760" y="3755880"/>
            <a:ext cx="14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51240" y="35161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959120" y="34668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74640" y="2679840"/>
            <a:ext cx="414000" cy="246240"/>
            <a:chOff x="674640" y="2679840"/>
            <a:chExt cx="414000" cy="246240"/>
          </a:xfrm>
        </p:grpSpPr>
        <p:sp>
          <p:nvSpPr>
            <p:cNvPr id="225" name=""/>
            <p:cNvSpPr/>
            <p:nvPr/>
          </p:nvSpPr>
          <p:spPr>
            <a:xfrm>
              <a:off x="718920" y="2697120"/>
              <a:ext cx="3679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4640" y="2679840"/>
              <a:ext cx="41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v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2680" y="3597120"/>
            <a:ext cx="64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128600" y="2847600"/>
            <a:ext cx="74304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114560" y="2757240"/>
            <a:ext cx="7617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80640" y="2286000"/>
            <a:ext cx="46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840" y="366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440" y="347976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909720" y="293040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4000" y="37558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75360" y="650880"/>
            <a:ext cx="196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64280" y="86688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64280" y="1444680"/>
            <a:ext cx="444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64280" y="1739880"/>
            <a:ext cx="44460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49560" y="6969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TP, HTTP, email, e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48840" y="1274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eaming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UDP, ??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8480" y="1608120"/>
            <a:ext cx="103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pera file xf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81920" y="1905120"/>
            <a:ext cx="407880" cy="168120"/>
          </a:xfrm>
          <a:prstGeom prst="rect">
            <a:avLst/>
          </a:pr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1920" y="2157480"/>
            <a:ext cx="407880" cy="16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62880" y="187488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GA Responsi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62880" y="2127240"/>
            <a:ext cx="134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FCO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72200" y="2443320"/>
            <a:ext cx="408240" cy="1681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3520" y="2413080"/>
            <a:ext cx="13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 P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61240" y="281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64280" y="11523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0280" y="982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ual disk xfers (“sneaker-net”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71440" y="363600"/>
            <a:ext cx="4041000" cy="276480"/>
            <a:chOff x="271440" y="363600"/>
            <a:chExt cx="4041000" cy="276480"/>
          </a:xfrm>
        </p:grpSpPr>
        <p:grpSp>
          <p:nvGrpSpPr>
            <p:cNvPr id="252" name=""/>
            <p:cNvGrpSpPr/>
            <p:nvPr/>
          </p:nvGrpSpPr>
          <p:grpSpPr>
            <a:xfrm>
              <a:off x="271440" y="395280"/>
              <a:ext cx="244800" cy="231120"/>
              <a:chOff x="271440" y="395280"/>
              <a:chExt cx="244800" cy="231120"/>
            </a:xfrm>
          </p:grpSpPr>
          <p:sp>
            <p:nvSpPr>
              <p:cNvPr id="253" name=""/>
              <p:cNvSpPr/>
              <p:nvPr/>
            </p:nvSpPr>
            <p:spPr>
              <a:xfrm>
                <a:off x="324000" y="4334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1440" y="395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16960" y="363600"/>
              <a:ext cx="379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71440" y="1041480"/>
            <a:ext cx="4657680" cy="276480"/>
            <a:chOff x="271440" y="1041480"/>
            <a:chExt cx="4657680" cy="276480"/>
          </a:xfrm>
        </p:grpSpPr>
        <p:grpSp>
          <p:nvGrpSpPr>
            <p:cNvPr id="257" name=""/>
            <p:cNvGrpSpPr/>
            <p:nvPr/>
          </p:nvGrpSpPr>
          <p:grpSpPr>
            <a:xfrm>
              <a:off x="271440" y="1065240"/>
              <a:ext cx="244800" cy="231120"/>
              <a:chOff x="271440" y="1065240"/>
              <a:chExt cx="244800" cy="23112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000" y="110340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1440" y="10652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14800" y="1041480"/>
              <a:ext cx="44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71440" y="1379520"/>
            <a:ext cx="4124160" cy="276480"/>
            <a:chOff x="271440" y="1379520"/>
            <a:chExt cx="4124160" cy="276480"/>
          </a:xfrm>
        </p:grpSpPr>
        <p:grpSp>
          <p:nvGrpSpPr>
            <p:cNvPr id="262" name=""/>
            <p:cNvGrpSpPr/>
            <p:nvPr/>
          </p:nvGrpSpPr>
          <p:grpSpPr>
            <a:xfrm>
              <a:off x="271440" y="1403280"/>
              <a:ext cx="244800" cy="231120"/>
              <a:chOff x="271440" y="1403280"/>
              <a:chExt cx="244800" cy="231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24000" y="144648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1440" y="1403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17680" y="1379520"/>
              <a:ext cx="38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71440" y="2736720"/>
            <a:ext cx="3978720" cy="276480"/>
            <a:chOff x="271440" y="2736720"/>
            <a:chExt cx="3978720" cy="276480"/>
          </a:xfrm>
        </p:grpSpPr>
        <p:grpSp>
          <p:nvGrpSpPr>
            <p:cNvPr id="267" name=""/>
            <p:cNvGrpSpPr/>
            <p:nvPr/>
          </p:nvGrpSpPr>
          <p:grpSpPr>
            <a:xfrm>
              <a:off x="271440" y="2760480"/>
              <a:ext cx="244800" cy="231120"/>
              <a:chOff x="271440" y="2760480"/>
              <a:chExt cx="244800" cy="231120"/>
            </a:xfrm>
          </p:grpSpPr>
          <p:sp>
            <p:nvSpPr>
              <p:cNvPr id="268" name=""/>
              <p:cNvSpPr/>
              <p:nvPr/>
            </p:nvSpPr>
            <p:spPr>
              <a:xfrm>
                <a:off x="324000" y="279864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1440" y="2760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6960" y="273672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71440" y="701640"/>
            <a:ext cx="3507840" cy="276480"/>
            <a:chOff x="271440" y="701640"/>
            <a:chExt cx="3507840" cy="276480"/>
          </a:xfrm>
        </p:grpSpPr>
        <p:grpSp>
          <p:nvGrpSpPr>
            <p:cNvPr id="272" name=""/>
            <p:cNvGrpSpPr/>
            <p:nvPr/>
          </p:nvGrpSpPr>
          <p:grpSpPr>
            <a:xfrm>
              <a:off x="271440" y="725760"/>
              <a:ext cx="244800" cy="231120"/>
              <a:chOff x="271440" y="725760"/>
              <a:chExt cx="244800" cy="231120"/>
            </a:xfrm>
          </p:grpSpPr>
          <p:sp>
            <p:nvSpPr>
              <p:cNvPr id="273" name=""/>
              <p:cNvSpPr/>
              <p:nvPr/>
            </p:nvSpPr>
            <p:spPr>
              <a:xfrm>
                <a:off x="319320" y="76392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1440" y="725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520200" y="701640"/>
              <a:ext cx="325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1440" y="1719360"/>
            <a:ext cx="3895560" cy="276480"/>
            <a:chOff x="271440" y="1719360"/>
            <a:chExt cx="3895560" cy="276480"/>
          </a:xfrm>
        </p:grpSpPr>
        <p:grpSp>
          <p:nvGrpSpPr>
            <p:cNvPr id="277" name=""/>
            <p:cNvGrpSpPr/>
            <p:nvPr/>
          </p:nvGrpSpPr>
          <p:grpSpPr>
            <a:xfrm>
              <a:off x="271440" y="1743480"/>
              <a:ext cx="244800" cy="231120"/>
              <a:chOff x="271440" y="1743480"/>
              <a:chExt cx="244800" cy="231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24000" y="17816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1440" y="1743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16240" y="1719360"/>
              <a:ext cx="36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1440" y="2057400"/>
            <a:ext cx="3362400" cy="276480"/>
            <a:chOff x="271440" y="2057400"/>
            <a:chExt cx="3362400" cy="276480"/>
          </a:xfrm>
        </p:grpSpPr>
        <p:grpSp>
          <p:nvGrpSpPr>
            <p:cNvPr id="282" name=""/>
            <p:cNvGrpSpPr/>
            <p:nvPr/>
          </p:nvGrpSpPr>
          <p:grpSpPr>
            <a:xfrm>
              <a:off x="271440" y="2081160"/>
              <a:ext cx="244800" cy="231120"/>
              <a:chOff x="271440" y="2081160"/>
              <a:chExt cx="244800" cy="23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324000" y="211932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1440" y="20811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19480" y="2057400"/>
              <a:ext cx="31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1440" y="2397240"/>
            <a:ext cx="4512240" cy="276480"/>
            <a:chOff x="271440" y="2397240"/>
            <a:chExt cx="4512240" cy="276480"/>
          </a:xfrm>
        </p:grpSpPr>
        <p:grpSp>
          <p:nvGrpSpPr>
            <p:cNvPr id="287" name=""/>
            <p:cNvGrpSpPr/>
            <p:nvPr/>
          </p:nvGrpSpPr>
          <p:grpSpPr>
            <a:xfrm>
              <a:off x="271440" y="2421000"/>
              <a:ext cx="244800" cy="231120"/>
              <a:chOff x="271440" y="2421000"/>
              <a:chExt cx="244800" cy="231120"/>
            </a:xfrm>
          </p:grpSpPr>
          <p:sp>
            <p:nvSpPr>
              <p:cNvPr id="288" name=""/>
              <p:cNvSpPr/>
              <p:nvPr/>
            </p:nvSpPr>
            <p:spPr>
              <a:xfrm>
                <a:off x="324000" y="245916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1440" y="2421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14080" y="2397240"/>
              <a:ext cx="42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7:05:38Z</dcterms:created>
  <dc:creator>srs.user</dc:creator>
  <dc:description/>
  <dc:language>en-US</dc:language>
  <cp:lastModifiedBy>srs.user</cp:lastModifiedBy>
  <dcterms:modified xsi:type="dcterms:W3CDTF">2008-08-05T12:38:21Z</dcterms:modified>
  <cp:revision>70</cp:revision>
  <dc:subject/>
  <dc:title>Slide 1</dc:title>
</cp:coreProperties>
</file>